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D3-E643-408A-9451-E2EC913F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5D1-FB84-41EC-B4BB-0944905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241C4-17C0-4389-B800-189A4E3D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4B602-FA9B-4F87-8229-B31B78C9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C9928-BA82-49C0-96ED-51BEC974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D98AB-A645-456C-AA5E-4B76D39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8D3F-AC6A-4D77-81F8-B8A645E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719D5-3D8B-4BD8-8638-A9B3C02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F91CA-59C4-4992-9625-AB6DCBFA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7566F-70D2-4E17-85CF-4429441B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54125-5C23-440C-ACE4-20A809A6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89F3E-7990-4764-9415-833BE10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C6A-3D84-4E9C-AB44-C2C36836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0841B-A51C-48AE-BDF0-4A68E8EA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45DF6-AE5B-4379-9D19-C19AC59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3FF5F-9CF7-4BB9-8D4A-5EA0A29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CC43D-6BF6-4F1B-A59D-3FE2202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40116-DCA6-456F-921A-BE69E13C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38B49-0993-4784-BCAC-EA052C2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5BB26-2652-454B-B5FF-B045F1E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243A9-E661-4503-8462-7DB6A6C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1249C-00E2-46A9-A441-7959C07D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09172-5296-410B-82E2-730E205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CB6-5AA0-4EF4-9B8E-2642EC88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F3557-FBC1-431A-A1ED-D0A4EF52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1B5-77C2-4A44-9897-4F562E60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A2A-76CE-4EF8-BD6B-05CBCAA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D66-A1AC-4027-A975-820BEFF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7734-DCDE-4CA2-B352-3B5DA0D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3A3-4EC4-483C-8080-D0405B4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3EB8-56FD-4646-88AA-800D57D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297-259B-447B-9ED7-6710666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86E-A01A-4462-99C1-E40E383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E933-D1E1-4ACE-B1CE-3A801BA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78F5-A095-4694-B9C1-2BD025F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AA1-5EAD-45A7-9E1C-702F9A76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A2A-E755-48FD-B24E-92EBFFB0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3D00-3A1C-4AE7-A442-89B19DD6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6214-037C-4272-9675-581507B5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A279-2F21-4C5D-BBF3-87C38B7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79F8-4497-43D8-B83A-B55DB5FD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F5B8-430A-42E5-9939-259048B1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3FDC-E034-49A3-9BAB-A4030F8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E9A-9B45-46D7-B67C-308FFA9C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8DE5-185E-48A1-82C8-DC518CCF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E1DC-2E19-46ED-B220-DA297A5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4015-15DB-4EDB-BF3E-19C3937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CB0B-DC7A-4C7D-A520-6303320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987A-8CA6-4114-B1BB-488703B9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5E63-D445-4E7F-B944-724BD5FF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5BCD-A996-4B2F-ABFF-6AE71482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68A2B-C34C-4B24-92A5-25EE08F2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93D63-2D2B-42C7-9347-AB8ED9C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77DF7-A8BB-467B-8B8B-BEBCF6F9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06F-9448-48FC-8914-176115E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91150-CAB0-49DF-B35D-44363F7D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65B4C-0F2D-4114-9AB7-31A9C9F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85D8B-3173-47AF-82B1-AE0B038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E6B57-A38E-417D-B034-14FFFD7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A93A0-6971-4A4C-B486-F6B9568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DB03D-BDAC-46BA-B203-8F7F471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E0C7D-887A-4E3F-BAC4-54FD94DA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ED547-3F49-4B36-8C86-A93C3E61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CB877-C04B-48C0-9DF6-CB3B1AF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EE8B-886C-46E1-9DA3-CD7802D9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51B-9F65-4AFF-AA19-1F36941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1FBA-280D-4031-B00F-182F7105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4589-26A3-4085-AD85-74FFA621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6C8E3-036B-4851-8A84-5D21472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452E-6456-40CE-9B74-A1F610B2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A3FC-7A03-41AF-92D4-46D1E5F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45C8-DB61-4680-A782-D84EA75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EAF7-9DFF-4A8E-9163-456C716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DB2E-4BB1-4DD4-8E00-79398A31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FD379-674E-45CB-9457-594F381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2CB3-4870-407C-8FDB-655DEC29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F19-54B7-4B45-BE05-865012E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3CB4-0822-4125-81F7-C927792D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D597-6263-4149-A686-723F5D98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628F-8D00-4622-81B7-A0992A0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44F1-AAF5-4C88-B528-DF78338F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D134-6B12-4D19-A28F-F73F0207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5F56-8303-4132-B577-73E8671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01EB-1452-4E2B-97AF-2B6A7DE9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1372-3ED5-4885-BC86-665D587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652CD-DDBB-4A5C-9CB7-865DCFDC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6375-8313-4374-916C-FF9334D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700-5A1A-40BF-BFAE-57D3E4E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9A7F-D005-4FA8-9898-1B88EC4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66DB7-C761-42E0-B259-77B39EA9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4EB3-90F5-467A-AA82-39E2BC32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6B09-D3A9-4E75-9FE7-A3371C7F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23F6-2A99-4E14-ABF2-29CE7E8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357A-312F-4BFE-8896-8C10B0CC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1DB6-C52E-4322-856B-7DA863A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23C7-19A9-4E28-A593-CD5E53F3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FB94-6616-4F27-888F-6570B80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05D1-8584-4591-89AB-864153F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2C1-92A0-4B74-84FC-8E4835A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3E99-C7CA-428C-BC71-DAED18E7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4AEA-787D-47C4-9BCE-D278506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24E0-7D5E-4B96-8633-125CF3A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F3AD-FF81-4911-A5DC-B784933C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3545-809F-4D89-B416-DBF03E8F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39678-48B1-4773-A492-0D88AA70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C6871-EA06-4F02-BE43-B4FBE278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D4F8-CB57-48A7-A9DF-C9CA788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EC2A-4F78-4F76-85F6-8587262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E20B-5638-47AB-B68C-0C25156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5FB-DF4A-460C-B767-7286AF4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2A07-D31F-4633-AF1B-EA805D5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B579D-3A3A-401D-8DED-6033D95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93A9-F012-45CC-AEAA-670DC19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D27A-2ECF-4985-B754-1904293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6820-C821-4DD1-B4CB-2E831B5E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7599-6D9F-4CFF-8104-3C1BA0F9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C8B3-D566-48C1-8B34-A3171D42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8C632-7207-4418-9CAB-E7E4D700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58A29-78DF-4A87-9DBF-548EBED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DF3F4-5F80-44A9-ACD8-C78BEED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A8FA-47C9-4717-9077-24F08C03E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5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48B6-6C95-4D73-93DB-45BE63E5DA0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D1C5-AA12-4397-9897-150D3A0C7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AAB6-D6EC-4769-BF6F-749D84A9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F469-5010-4079-8136-6A282D95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785-C023-4B78-B081-24A598FA1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7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717C-DE99-407C-9047-A233DF54BD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A39-06E9-4134-B2B1-DF0754498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EBB0-EF60-4976-8205-76DC6507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7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7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8751-B9E4-401B-BE44-1C1825EFCAC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co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Ashley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ndangered spec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d ea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y wo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8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spe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048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fferent spec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pulations in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iotic around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iotic in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c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co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spe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5486400" y="443880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l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4:40:48Z</dcterms:created>
  <dc:creator>LCS_user</dc:creator>
  <dc:description/>
  <dc:language>en-US</dc:language>
  <cp:lastModifiedBy>LCS_user</cp:lastModifiedBy>
  <dcterms:modified xsi:type="dcterms:W3CDTF">2008-10-30T14:23:15Z</dcterms:modified>
  <cp:revision>7</cp:revision>
  <dc:subject/>
  <dc:title>ecosystems</dc:title>
</cp:coreProperties>
</file>